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15FC-C1D2-44E8-A758-465371BA6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5E00-7B98-4F38-9153-9B2FEF7CF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F7B4-9EED-4B19-9B90-4AF7300A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34A-436D-4EF4-833B-CD5C3E882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58AA-8174-46F1-BCB7-E303DE9B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5720-855C-4E0D-A5A1-CA6D5F2BF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0B5A-0248-4606-AC4C-C85ABC74E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FA6-8295-450E-B6CE-A421500D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47E1-E92F-4D68-92C8-A3691B18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429D-1C6A-4225-8AF5-EAE30F9D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CC1D-8145-4308-B771-257C2E878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717B-25DE-4425-A87C-02597FC34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2F2-65F0-4F45-8330-3B08F5AA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5F62-D86C-41F1-BA6A-CB4C204E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D8B3-067B-4D98-95B1-284B5D0E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5A25-EFD0-4219-B216-808F5F62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6514-C96B-487F-A8C8-62272686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E084-16DF-4AC7-92F0-D891EDB2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B61-9C03-4E1B-AB9B-FC5A50D97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CD4-6210-4552-B748-3504A0C0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3FC5-545D-440E-95DE-BCBDB8ED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68B-116E-4C0C-B6CD-CE12507C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A1C1-3206-42AB-ABE0-E0625ACB9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825E-2AF1-4044-AD02-4F5DF3F5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E72-B7BD-4F42-B2A4-1B0C1962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FF5-C8ED-4F7F-82ED-4D72A807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F24-8965-4022-8B72-19BF5A04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D58-6688-48CE-80F2-7C9C2554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EEA-B9FD-4EFA-B64F-AD9C1AC4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16A-D4CC-4559-BEA2-36EDAE81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182-2D27-458C-A850-FFF961A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511-C579-4520-879A-7E8238CA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2D7-3EE4-441E-B2DC-08A76473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EE0-853F-43FF-AA2A-DED000B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C5E-5549-40B3-A778-86C367EF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E3B-DCB5-4AF4-9314-5198A19C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25E4-8C91-45E6-BC24-63419FEEA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27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0D16-14A4-4A2C-9877-11210C3B3F3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ИЗБОР ЛОКАЛНОГ АНЕСТЕТИЧКОГ РАСТВОР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3885840"/>
            <a:ext cx="772020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(B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04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Анестетичко дејство, токсично дејство, избор анестетичког сре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49320" y="3700440"/>
            <a:ext cx="478332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840" y="6180120"/>
            <a:ext cx="786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2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51B2-DD76-4D05-A6EB-EC934B46E9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25520" y="1555920"/>
            <a:ext cx="81676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ИНТЕНЗИТЕТ АНЕСТЕ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параметар који је, вероватно, најтеже егзактно проценити јер у многоме зависи и од субјективности испитаника која је у суштини непредвид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ензитет постигнуте анестезије је основна мера потенције локалног анестетика у клиничким усл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енција је специфична способност анестетичког средства  да онемогући преношење нервних импулса и може се егзактно одредити у експерименталним усл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1611-A103-49D8-9787-2ED534DA360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14440" y="1992240"/>
            <a:ext cx="82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испитивања су недвосмислено показала да је потенција анестетика амидне групе већа за 2 или више од анестетика естарске гр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CB5-9B8D-4B0E-99D5-454FB614393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25600" y="1979640"/>
            <a:ext cx="8154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ТРАЈАЊЕ АНЕСТЕ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време које протекне од момента настанка до момента престанка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 зависи само од врсте локалног анестетика већ и од технике примене (терминална или спроводна анестезија), присуства вазоконстриктора у раствору и места испитив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958D-5C4A-4C6F-B03D-DF9D49FAEF3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25600" y="2092320"/>
            <a:ext cx="8129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ајање анестезије је знатно дуже после примене лидокаин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мека ткива до 4 сата, пародонцијум око 2 сата, пулпа око 1 с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го прокаина (трајање анестезије меких ткива и пародонцијума је упола краће, а анестезија пулпе занемарљи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естетици амидне групе с дуготрајним деловањем (бупивака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ју анестезију меких ткива  и  до 8 с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ребно је напоменути да дуже трајање анестезије не мора да буде  предност једног анестетика, јер дуготрајна анестезија меких ткива не само да уме да буде непријатна већ и непожељ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код дец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696A-DE5C-43D0-B775-2D8907CA2F4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76360" y="2154240"/>
            <a:ext cx="8103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оксичне реакције на локалне анестетичке растворе јављају се као последица предозирања, односно присуства токсичних концентрација локалног анестетичког средства или вазоконстриктора у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оксичне промене се могу манифестовати на месту убризгавања супстанције (локална токсичност)  или се успостављају на неком од органа или система (општа, системска токсичнос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031C-825C-4A57-977C-399E52D579D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514440" y="1954080"/>
            <a:ext cx="81280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ЛОКАЛНА 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убризгавања локалних анестетичких раствора са вазоконстрикторима, на месту апликације се понекад запажају промене у смислу надражаја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тим, у којој мери ове компликације могу значити последицу локалног надражајног дејства самог анестетика или вазоконстриктора, за сада је тешко рећ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8600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9CC3-99B6-4AE5-ADCC-B071A89B744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88880" y="1992240"/>
            <a:ext cx="8166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пак, локална токсичност савремених локалних анестетика је сразмерно мала и чини се да локални анестетици не проузрокују локална оштећења ткива, чак ни када су у високим концентрац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тим, комбинација локалног анестетика и вазоконстриктора може изазвати локалне промене у тк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о је последица пролонгираног дејства локалног анестетика у комбинацији са вазоконстриктором, тако да ови раствори могу имати извесну ткивну токсич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ма физичко- хемијска својства раствора могу утицати на локалне токсичне реакције (ниске вредности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pH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Content Placeholder 3" descr=""/>
          <p:cNvPicPr/>
          <p:nvPr/>
        </p:nvPicPr>
        <p:blipFill>
          <a:blip r:embed="rId1"/>
          <a:srcRect l="5409" t="0" r="0" b="0"/>
          <a:stretch/>
        </p:blipFill>
        <p:spPr>
          <a:xfrm>
            <a:off x="871560" y="1504800"/>
            <a:ext cx="7815240" cy="4726080"/>
          </a:xfrm>
          <a:prstGeom prst="rect">
            <a:avLst/>
          </a:prstGeom>
          <a:ln w="0">
            <a:noFill/>
          </a:ln>
        </p:spPr>
      </p:pic>
      <p:sp>
        <p:nvSpPr>
          <p:cNvPr id="13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D25C-A80B-41B0-A982-D953DCC5370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700360" y="2070000"/>
            <a:ext cx="2631960" cy="41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еразговетан или отежан гов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Задебљане усне/је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Парестез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лтерирани централни нервни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Вртоглавица, мучнина, аритмије, умор конфуз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Мускуларна  дрхтав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ап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Конвулзије, респираторна депресија, кардиа ар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1A26-133C-46F3-927C-BA59BC7EAB7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01480" y="2003400"/>
            <a:ext cx="8191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ОПШТА 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век треба имати у виду да су општи поремећаји теже природе од локалних и по правилу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ахтевају хитан третман !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аве токсичне реакције после примене локалних анестетичких раствора изузетно се ретко јављају у стоматолошкој прак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акси могу се јавити блажи токсични ефекти после примене адреналина или норадреналина код пацијената који су осетљиви на симпатомиметичке ам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DDF6-8FFC-4D7B-BB1A-E5798075085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63680" y="1903320"/>
            <a:ext cx="8242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ктори који изазивају токсичне реакције после апликације анестетика су многоброј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 њима најважнији су токсичност анестетика и његова фармакокинетичка својства (брзина и степен ресорпције, дифузије у ткивима, инактивације и елиминациј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 токсичношћу локалног анестетика подразумева се својство изазивања нежељених ефеката у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E0E2-2D29-4319-B382-878F17973E0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аспекти локал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01480" y="1690560"/>
            <a:ext cx="827892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аспекти примене локалних анестетичких раствора обухватају процену одређених параметара њиховог анестетичког и токсичног деј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новни параметри анестетичког дејств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Фреквенција анест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Латентни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Ширина анестетичког по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Интезитет (јачина) анест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Трајање анестез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FE34-C746-475D-9601-1A67EABCCB5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38200" y="2154240"/>
            <a:ext cx="8067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з обзира на начин примене анестетика (површински или инјекциони), анестетик после апликације постепено прелази са места депоновања у циркулацију и расподељује се  путем крви по организму пре него што се из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више концентрације анестетика у крви постижу се после брзог интравенског убризгав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токсикација анестетика се скоро потпуно врши у јетри, а делимична разградња може да се врши и у плазми и другим тки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0D23-E2A8-4D50-A3A8-0DAD11DC152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38200" y="1879560"/>
            <a:ext cx="806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а анестетичка средства, као и њихови метаболити, елиминишу се преко бубре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ребно је нагласити да је разградња анестетика естарског типа бржа од разградње анестетика амидног типа, што је један од разлога њихове мање токс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оксичн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4" name="Content Placeholder 3" descr=""/>
          <p:cNvPicPr/>
          <p:nvPr/>
        </p:nvPicPr>
        <p:blipFill>
          <a:blip r:embed="rId1"/>
          <a:stretch/>
        </p:blipFill>
        <p:spPr>
          <a:xfrm>
            <a:off x="1332000" y="1530360"/>
            <a:ext cx="6356160" cy="478476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82D2-6C28-4021-A72A-0C2BFB04849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A1EC-5EE2-4339-B454-85C1170992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збор локалног анестетичког раствор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50800" y="2592360"/>
            <a:ext cx="810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обзиром на различите карактеристике постојећих локалних анестетичких раствора од посебног је интереса избор најпогоднијег локалног анестетичког средства за стоматолошке интервенције које могу бити веома различите , како у погледу трајања тако и у погледу непријатности за пациј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13A8-3252-4796-B54C-ACF10738A1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аспекти локал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463680" y="2205000"/>
            <a:ext cx="815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новни параметри токсичног дејств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Локална токсичност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пшта токсичност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снову компаративне анализе свих поменутих параметара код различитих локалних анестетичких раствора, може се извршити избор најпогоднијег раствора за поједине случајеве у клиничкој прак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10C-D856-44E7-9FDA-DBFFBCA9157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538200" y="1677960"/>
            <a:ext cx="78422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ФРЕКВЕНЦИЈА АНЕСТЕ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честалост настајања потпуне анестезије (фреквенција анестезије) одређује се на основу броја случајева  у којима је постигнута потпуна анестезија и укупног броја третираних случај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фреквенцију анестезије не утиче само врста анестетичког средства, већ и неки други чиниоци (примењена техника, количина и концентрација анестетика, присуство вазоконстрикт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C6B-8128-47F9-9804-A8177A6016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88880" y="2092320"/>
            <a:ext cx="8278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реквенца анестезије је већа приликом примене локалних анестетика амидне групе у поређењу са анестетицима естарске гр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ругим речима, сигурније ће се постићи задовољавајућа анестезија применом анестетика амидне групе, него применом анестетика естарске гр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F42E-F1CE-40D0-8799-54D8834AA5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38200" y="1928880"/>
            <a:ext cx="81550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ЛАТЕНТНИ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време које протекне од момента убризгавања анестетичког раствора до појаве првих симптома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утрнулост усне или тестирање зуба пулпа стимулат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сумњиво је доказано да је латентни период вишеструко краћи после примене раствора амидне групе у односу на естарску групу анесте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E510-0FAE-4DF4-BA13-1DA1BC8F11E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25600" y="2092320"/>
            <a:ext cx="81928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ШИРИНА АНЕСТЕТИЧКОГ П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пространство анестезије ткива постигнуте након апликације локалног анестетичког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Ширина анестетичког поља се по правилу одређује супрапериосталном апликацијом анестетика наспрам једног зуба у горњој вилици и одређивањем процента постигнуте анестезије сусед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D421-1462-4BD0-90F1-03908D3D5D5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25520" y="134604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Ширина анестетичког поља такође зависи од количине анестетичког раствора, његове концентрације, присуства вазоконстриктора и технике а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Што се тиче ширине анестетичког поља, локални анестетички раствори амидне групе имају знатно шире поље анестезије у поређењу са анестетичким растворима естарске гр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о је јако битно знати јер се применом анестетичких раствора амидне групе анестезирају и суседни зу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Анестетичко дејство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CA5C-4FA8-449B-B2BC-0D6DAD5B1BB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9" descr=""/>
          <p:cNvPicPr/>
          <p:nvPr/>
        </p:nvPicPr>
        <p:blipFill>
          <a:blip r:embed="rId1"/>
          <a:stretch/>
        </p:blipFill>
        <p:spPr>
          <a:xfrm>
            <a:off x="600120" y="1504800"/>
            <a:ext cx="3724200" cy="434196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8" descr=""/>
          <p:cNvPicPr/>
          <p:nvPr/>
        </p:nvPicPr>
        <p:blipFill>
          <a:blip r:embed="rId2"/>
          <a:stretch/>
        </p:blipFill>
        <p:spPr>
          <a:xfrm>
            <a:off x="4443480" y="1504800"/>
            <a:ext cx="4103640" cy="43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2-14T07:35:32Z</dcterms:modified>
  <cp:revision>238</cp:revision>
  <dc:subject/>
  <dc:title>NAZIV PREDAVANJA</dc:title>
</cp:coreProperties>
</file>